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F5119-C861-4B3B-A23D-3023B2DABF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6C053-F1F1-4689-AC0C-2BAA7D00D3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76A1D-1362-45DE-BA72-9967C1B9BE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5FB17-6BCD-4604-A2BD-ADC59EE48A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E4252-81B0-4830-BB2E-626058EB88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4BD1C-8043-4174-9F59-F9B40C5F3B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F2B4E-05DE-4561-BA53-84D7DC0CD3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5161F-F724-4FDA-86A2-0882F90719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5476C-EFBF-4B71-BB75-BB9F3EEC87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C496F-2A7C-49B2-9085-2D730F58C2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80A83-6DBB-4383-A6EC-E24C65F991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9E13F-C685-4182-B1AA-F1DF64A601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2DACD-28E1-428F-90B0-325D6C678A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54794-1204-4040-8EF7-1CED92E026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7442F-DACC-4329-B9DD-11E0C93D93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6614B-BB4D-4016-8157-11E259F1B2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6E9A1-F2C8-45B2-B42E-CB6497C213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E109B-0D7E-40A7-BC6F-38B8829B438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C00B0-A583-424B-A88D-A356A1327C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DCBF3-ADD3-41B3-AE9C-E7F9E16064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559-3F98-469D-9F9C-65AB7102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8817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1600" y="3709440"/>
            <a:ext cx="8817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DB9-952D-4E03-8990-6D9C5579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1600" y="37094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9960" y="37094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B67-7DC1-4DBB-9ABB-B4C52512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2760" y="13460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4280" y="13460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1600" y="37094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2760" y="37094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4280" y="37094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E80-E40A-4B70-868A-A221EE1A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3225-F27E-404F-BD7E-B25D904A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1600" y="1346040"/>
            <a:ext cx="8817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21A6-8954-4606-8D50-26B50FCC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8817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78C6-6602-482B-B638-9B35D44B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B67B-F4B3-495B-A786-5D757A36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A31A-03AE-4666-B6CE-3FF249CE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3160" y="371520"/>
            <a:ext cx="87948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9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BF3B-8EA6-4233-9354-C76F3DC2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1600" y="37094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E729-0DD6-4C8A-99DC-C08D1D24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1600" y="1346040"/>
            <a:ext cx="8817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A9F-DAF5-4523-9DF1-ECC08CE1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9960" y="37094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05E3-F529-4E0F-9E5B-2A06F9C7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1600" y="3709440"/>
            <a:ext cx="8817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3E34-B625-4E54-A48E-FDE4BC4A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8817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1600" y="3709440"/>
            <a:ext cx="8817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8F54-5E4E-4FA6-AEAB-408201A8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1600" y="37094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9960" y="37094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4EFB-5544-44C4-A40B-A856C2B0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2760" y="13460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4280" y="13460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1600" y="37094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2760" y="37094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4280" y="37094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E5F3-DF07-4DB5-8D89-2E36EFBE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8817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8FF-18B7-4EA8-B6B6-8C9FBE6D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EDB-880E-49C1-BE9E-DCE7EA68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297-EE10-4E9F-8EF2-581913CA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3160" y="371520"/>
            <a:ext cx="87948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9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288-364A-449E-A6F9-230BA7DB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1600" y="37094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CED-316C-4076-A6A6-366D72ED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9960" y="37094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CD8-8147-4404-AEE9-C848F2A5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1600" y="3709440"/>
            <a:ext cx="8817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3E0-6BCE-4118-B9CC-81449227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1600" y="1346040"/>
            <a:ext cx="8817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9000"/>
              </a:lnSpc>
              <a:spcBef>
                <a:spcPts val="901"/>
              </a:spcBef>
              <a:buClr>
                <a:srgbClr val="00247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9000"/>
              </a:lnSpc>
              <a:spcBef>
                <a:spcPts val="901"/>
              </a:spcBef>
              <a:buClr>
                <a:srgbClr val="e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901"/>
              </a:spcBef>
              <a:buClr>
                <a:srgbClr val="ffce05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FC5B5-2C17-41E4-940B-16819631977E}" type="slidenum"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187200" y="1201680"/>
            <a:ext cx="8805960" cy="88920"/>
          </a:xfrm>
          <a:prstGeom prst="rect">
            <a:avLst/>
          </a:prstGeom>
          <a:solidFill>
            <a:srgbClr val="ffc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1520" y="1554120"/>
            <a:ext cx="85075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12921-767D-4B42-B1A8-654F914F81FC}" type="slidenum">
              <a:rPr b="1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79000"/>
              </a:lnSpc>
              <a:spcBef>
                <a:spcPts val="901"/>
              </a:spcBef>
              <a:buClr>
                <a:srgbClr val="00247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9000"/>
              </a:lnSpc>
              <a:spcBef>
                <a:spcPts val="901"/>
              </a:spcBef>
              <a:buClr>
                <a:srgbClr val="e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901"/>
              </a:spcBef>
              <a:buClr>
                <a:srgbClr val="ffce05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djusting for Depreciation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3F0949-A910-4037-8C6B-B41FFFEE1D45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he truck example, the adjusting entry would b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  Depreciation Expen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1,700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  Accumulated Amortization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11,7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he furniture example, the adjusting entry would b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  Depreciation Expen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462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  Accumulated Amortization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46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justing Entry for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D95C76-E9E7-4AF8-BC8C-218D440C7A89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ncome 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99"/>
              </a:spcBef>
              <a:buClr>
                <a:srgbClr val="e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reciation expense is shown on the income state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99"/>
              </a:spcBef>
              <a:buClr>
                <a:srgbClr val="e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depreciation expense item is shown separately (e.g.  Depreciation Expense – Truck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alance She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99"/>
              </a:spcBef>
              <a:buClr>
                <a:srgbClr val="e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umulated depreciation is deducted from its respective fixed asset account on the balance she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99"/>
              </a:spcBef>
              <a:buClr>
                <a:srgbClr val="e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asset, with its related accumulated depreciation, is shown separately.  For example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ruc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$78,0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ss:  Accumulat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reciation    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 11,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$66,3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73160" y="61920"/>
            <a:ext cx="879624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inancial Statement Pres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AA84C5-220F-4114-AC41-109B43D5A61F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metimes an asset is used for only part of a yea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00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example, you purchase a building on May 1, 2007 for $120,000.  The building is expected to be used for 30 years, after which it will be worth $30,000.  Your company issued financial statements quarterly (i.e. every 3 month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nual depreciation = (120,000 – 30,000) / 30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= $3,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ly depreciation = 3,000 / 12 = $250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 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depreciation expense would b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quarter  $    0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quarter $500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73160" y="-1476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preciation for Part Yea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FE38A2-0EC7-4CF7-987F-ACA5C867A2EF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01600" y="1345680"/>
            <a:ext cx="881856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declining-balance metho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s an alternative to the straight-line method of calculating depreci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declining-balance method is common because the government of Canada requires a variation of this method for income tax purpo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method calculates the annual depreciation by multiplying the remaining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depreciated cost (i.e. net book value)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y a fixed percenta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clining-Balance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DE4F2B-3680-4FF5-B97B-67D979BE2627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1600" y="1345680"/>
            <a:ext cx="881856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me of the percentage rates set by the government are as follow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clining-Balance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0880" y="2286000"/>
          <a:ext cx="8458200" cy="3862440"/>
        </p:xfrm>
        <a:graphic>
          <a:graphicData uri="http://schemas.openxmlformats.org/drawingml/2006/table">
            <a:tbl>
              <a:tblPr/>
              <a:tblGrid>
                <a:gridCol w="1143000"/>
                <a:gridCol w="6324840"/>
                <a:gridCol w="990360"/>
              </a:tblGrid>
              <a:tr h="478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 Customs and Revenue Agenc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s of Capital Cost Allowance (Depreciatio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s of brick, stone, or c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s of frame, lot, or stuc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furniture and equip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obiles, trucks, tractors, computer equip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software (except system softwar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D35451-7F8B-47D8-849F-9C00C9180911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01600" y="1345680"/>
            <a:ext cx="881856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:  you purchase computers on January 1, 2006 for $22,000.  The rate, per the previous slide, is 30%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preciation expense would be calculated as follow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6: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riginal Cos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$22,000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Less: Depreci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$22,000 x 30%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   6,6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Undepreciated co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net book value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$15,4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clining-Balance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152280" y="4572000"/>
            <a:ext cx="8991720" cy="1524960"/>
            <a:chOff x="152280" y="4572000"/>
            <a:chExt cx="8991720" cy="1524960"/>
          </a:xfrm>
        </p:grpSpPr>
        <p:grpSp>
          <p:nvGrpSpPr>
            <p:cNvPr id="180" name="Group 41"/>
            <p:cNvGrpSpPr/>
            <p:nvPr/>
          </p:nvGrpSpPr>
          <p:grpSpPr>
            <a:xfrm>
              <a:off x="5562720" y="4572000"/>
              <a:ext cx="1828800" cy="762120"/>
              <a:chOff x="5562720" y="4572000"/>
              <a:chExt cx="1828800" cy="762120"/>
            </a:xfrm>
          </p:grpSpPr>
          <p:sp>
            <p:nvSpPr>
              <p:cNvPr id="181" name="Line 39"/>
              <p:cNvSpPr/>
              <p:nvPr/>
            </p:nvSpPr>
            <p:spPr>
              <a:xfrm flipH="1">
                <a:off x="5562720" y="4572000"/>
                <a:ext cx="1828800" cy="762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40"/>
              <p:cNvSpPr/>
              <p:nvPr/>
            </p:nvSpPr>
            <p:spPr>
              <a:xfrm>
                <a:off x="6248520" y="5029200"/>
                <a:ext cx="1143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Text Box 42"/>
            <p:cNvSpPr/>
            <p:nvPr/>
          </p:nvSpPr>
          <p:spPr>
            <a:xfrm>
              <a:off x="152280" y="4756320"/>
              <a:ext cx="8991720" cy="13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2007: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Undepreciated Cost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     $15,400  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Less: Depreciation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($15,400 x 30%)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4,620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Undepreciated cost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(net book value)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$10,78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90F9D7-2E9E-44F8-826E-A4364F9D01DD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straight-line, assume the computers have an 8 year life with an ending value of $2,000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73160" y="61920"/>
            <a:ext cx="879624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mparison of the Two Methods of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9"/>
          <p:cNvGraphicFramePr/>
          <p:nvPr/>
        </p:nvGraphicFramePr>
        <p:xfrm>
          <a:off x="2438280" y="2119320"/>
          <a:ext cx="4338720" cy="47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119320"/>
                    <a:ext cx="433872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AutoShape 10"/>
          <p:cNvSpPr/>
          <p:nvPr/>
        </p:nvSpPr>
        <p:spPr>
          <a:xfrm>
            <a:off x="4952880" y="4343400"/>
            <a:ext cx="3276720" cy="1752480"/>
          </a:xfrm>
          <a:prstGeom prst="wedgeRoundRectCallout">
            <a:avLst>
              <a:gd name="adj1" fmla="val -55185"/>
              <a:gd name="adj2" fmla="val -65037"/>
              <a:gd name="adj3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$22,000 - $2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2,500 /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14"/>
          <p:cNvGrpSpPr/>
          <p:nvPr/>
        </p:nvGrpSpPr>
        <p:grpSpPr>
          <a:xfrm>
            <a:off x="0" y="3772080"/>
            <a:ext cx="3962520" cy="3047760"/>
            <a:chOff x="0" y="3772080"/>
            <a:chExt cx="3962520" cy="3047760"/>
          </a:xfrm>
        </p:grpSpPr>
        <p:sp>
          <p:nvSpPr>
            <p:cNvPr id="191" name="AutoShape 11"/>
            <p:cNvSpPr/>
            <p:nvPr/>
          </p:nvSpPr>
          <p:spPr>
            <a:xfrm>
              <a:off x="3505320" y="3886200"/>
              <a:ext cx="457200" cy="28195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3"/>
            <p:cNvSpPr/>
            <p:nvPr/>
          </p:nvSpPr>
          <p:spPr>
            <a:xfrm>
              <a:off x="0" y="3772080"/>
              <a:ext cx="3505320" cy="304776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e straight-lin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ethod produ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epreciation figur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at are the same each year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e net book value (NBV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r undepreciated co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radually reduces until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t reaches the estima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alvage value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Rectangle 15"/>
          <p:cNvSpPr/>
          <p:nvPr/>
        </p:nvSpPr>
        <p:spPr>
          <a:xfrm>
            <a:off x="7162920" y="6477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0A42D1-9364-4DA1-9B56-BF1097E48923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3160" y="61920"/>
            <a:ext cx="879624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mparison of the Two Methods of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4"/>
          <p:cNvGraphicFramePr/>
          <p:nvPr/>
        </p:nvGraphicFramePr>
        <p:xfrm>
          <a:off x="0" y="2133720"/>
          <a:ext cx="4338720" cy="47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33872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11"/>
          <p:cNvGraphicFramePr/>
          <p:nvPr/>
        </p:nvGraphicFramePr>
        <p:xfrm>
          <a:off x="4686480" y="2133720"/>
          <a:ext cx="4457520" cy="47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6480" y="2133720"/>
                    <a:ext cx="4457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Group 12"/>
          <p:cNvGrpSpPr/>
          <p:nvPr/>
        </p:nvGrpSpPr>
        <p:grpSpPr>
          <a:xfrm>
            <a:off x="2286000" y="3772080"/>
            <a:ext cx="3962520" cy="3047760"/>
            <a:chOff x="2286000" y="3772080"/>
            <a:chExt cx="3962520" cy="3047760"/>
          </a:xfrm>
        </p:grpSpPr>
        <p:sp>
          <p:nvSpPr>
            <p:cNvPr id="201" name="AutoShape 13"/>
            <p:cNvSpPr/>
            <p:nvPr/>
          </p:nvSpPr>
          <p:spPr>
            <a:xfrm>
              <a:off x="5791320" y="3886200"/>
              <a:ext cx="457200" cy="28195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14"/>
            <p:cNvSpPr/>
            <p:nvPr/>
          </p:nvSpPr>
          <p:spPr>
            <a:xfrm>
              <a:off x="2286000" y="3772080"/>
              <a:ext cx="3505320" cy="304776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e declining-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alance method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roduces depreci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igures that are the larger 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e early years and smaller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 the later years.  T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imated final value 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gnored using th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etho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Rectangle 15"/>
          <p:cNvSpPr/>
          <p:nvPr/>
        </p:nvSpPr>
        <p:spPr>
          <a:xfrm>
            <a:off x="7162920" y="6477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6E98DD-27A6-4861-BFFE-EFAFD1E0CCF9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01600" y="1345680"/>
            <a:ext cx="881856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ada Customs and Revenue Agency (CCRA) requires businesses to use the declining-balance method when calculating depreciation for tax purpo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addition, the CCRA generally allows 50% of the asset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 cost to be eligible for depreciation in its first year of use  …  regardless of the month it was purcha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CCRA refers to this as the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0% Ru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x Reg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72D99D-4A53-46CF-B2CF-E9D94B997032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01600" y="1345680"/>
            <a:ext cx="881856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would the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0% Ru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look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x Reg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0" y="1914480"/>
          <a:ext cx="9144000" cy="49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4480"/>
                    <a:ext cx="914400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6172200" y="396252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6172200" y="4191120"/>
            <a:ext cx="114300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162920" y="6477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287D9C-2232-4259-B1B4-B91997706EC4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ssets that are used to produce revenue over several fiscal periods are known as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fixed assets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xed assets are also known as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ong-lived assets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ant and equipmen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xcept for land, all fixed assets will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e used up in the course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ime and activit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justing for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5F2506-3D55-4A5E-B476-3D80D43BCA0D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79000"/>
              </a:lnSpc>
              <a:spcBef>
                <a:spcPts val="901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. 311, Exercise 1 (ignore Workbook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9000"/>
              </a:lnSpc>
              <a:spcBef>
                <a:spcPts val="901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. 312, Exercise 2 (For Part B, calculate depreciation with and without using the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50% rule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”, not 55%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9000"/>
              </a:lnSpc>
              <a:spcBef>
                <a:spcPts val="901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. 313, Exercise 4  …  prepare the adjusting entries and an adjusted trial balance (ignore Workbook and use T-Account template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9000"/>
              </a:lnSpc>
              <a:spcBef>
                <a:spcPts val="901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. 324 Exercise 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73160" y="0"/>
            <a:ext cx="87962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s / Ho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CC4C00-F5B8-4F80-874A-06A65BFF30EC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xed assets decrease or depreciate in valu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Depreciation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fers to an allowance made for the decrease in value of an asset over ti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t is not possible to calculate depreciation until the end of the asse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 life  …  only then, can you say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w many years it was used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d determine its final wort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justing for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E4D7DD-81DE-44AC-A51A-40F156529EDC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matching principle dictates that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depreciation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must be included on every year-end income statemen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 do this, accountants must estimate depreciation while the asset is still in us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two most common methods of calculating depreciation are the: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Straight-Line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method and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Declining-balance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metho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justing for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09E7CB-5B1E-4FBE-A601-A12DCBA17992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simplest way to estimate depreciatio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Straight-Line method of depreciation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divides up the net cost of the asset equally over the years of the asse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 lif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raight-Line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3"/>
          <p:cNvGrpSpPr/>
          <p:nvPr/>
        </p:nvGrpSpPr>
        <p:grpSpPr>
          <a:xfrm>
            <a:off x="1143000" y="4451400"/>
            <a:ext cx="7086600" cy="1494360"/>
            <a:chOff x="1143000" y="4451400"/>
            <a:chExt cx="7086600" cy="1494360"/>
          </a:xfrm>
        </p:grpSpPr>
        <p:sp>
          <p:nvSpPr>
            <p:cNvPr id="105" name="Text Box 4"/>
            <p:cNvSpPr/>
            <p:nvPr/>
          </p:nvSpPr>
          <p:spPr>
            <a:xfrm>
              <a:off x="1143000" y="4613400"/>
              <a:ext cx="220968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ght-Line Depreciation for one ye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3187440" y="493092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7"/>
            <p:cNvSpPr/>
            <p:nvPr/>
          </p:nvSpPr>
          <p:spPr>
            <a:xfrm>
              <a:off x="3657600" y="4451400"/>
              <a:ext cx="228600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iginal Cost of Ass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5638680" y="463860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5867280" y="4451400"/>
              <a:ext cx="23623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imated Salvage Valu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3695760" y="5172120"/>
              <a:ext cx="445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1"/>
            <p:cNvSpPr/>
            <p:nvPr/>
          </p:nvSpPr>
          <p:spPr>
            <a:xfrm>
              <a:off x="3581280" y="5172120"/>
              <a:ext cx="46483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imated Number of Periods in the Life of the Ass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E00074-1441-4C06-9026-B1315EAD477F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ou purchased a truck for $78,000 on January 1, 2007.  It is estimated that the truck will be used for six years, and at the end of that time, could be sold for $7,800.  What is the annual depreci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raight-Line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143000" y="3613320"/>
            <a:ext cx="7086600" cy="1494360"/>
            <a:chOff x="1143000" y="3613320"/>
            <a:chExt cx="7086600" cy="1494360"/>
          </a:xfrm>
        </p:grpSpPr>
        <p:sp>
          <p:nvSpPr>
            <p:cNvPr id="116" name="Text Box 5"/>
            <p:cNvSpPr/>
            <p:nvPr/>
          </p:nvSpPr>
          <p:spPr>
            <a:xfrm>
              <a:off x="1143000" y="3775320"/>
              <a:ext cx="220968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ght-Line Depreciation for one ye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3187440" y="409284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3657600" y="3613320"/>
              <a:ext cx="228600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iginal Cost of Ass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8"/>
            <p:cNvSpPr/>
            <p:nvPr/>
          </p:nvSpPr>
          <p:spPr>
            <a:xfrm>
              <a:off x="5638680" y="380052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9"/>
            <p:cNvSpPr/>
            <p:nvPr/>
          </p:nvSpPr>
          <p:spPr>
            <a:xfrm>
              <a:off x="5867280" y="3613320"/>
              <a:ext cx="23623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imated Salvage Valu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3695760" y="4334040"/>
              <a:ext cx="445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3581280" y="4334040"/>
              <a:ext cx="46483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imated Number of Periods in the Life of the Ass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20"/>
          <p:cNvGrpSpPr/>
          <p:nvPr/>
        </p:nvGrpSpPr>
        <p:grpSpPr>
          <a:xfrm>
            <a:off x="3187800" y="5105520"/>
            <a:ext cx="5041800" cy="966960"/>
            <a:chOff x="3187800" y="5105520"/>
            <a:chExt cx="5041800" cy="966960"/>
          </a:xfrm>
        </p:grpSpPr>
        <p:sp>
          <p:nvSpPr>
            <p:cNvPr id="124" name="Text Box 14"/>
            <p:cNvSpPr/>
            <p:nvPr/>
          </p:nvSpPr>
          <p:spPr>
            <a:xfrm>
              <a:off x="3187800" y="539748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15"/>
            <p:cNvSpPr/>
            <p:nvPr/>
          </p:nvSpPr>
          <p:spPr>
            <a:xfrm>
              <a:off x="3657600" y="5216400"/>
              <a:ext cx="22860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7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16"/>
            <p:cNvSpPr/>
            <p:nvPr/>
          </p:nvSpPr>
          <p:spPr>
            <a:xfrm>
              <a:off x="5638680" y="510552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17"/>
            <p:cNvSpPr/>
            <p:nvPr/>
          </p:nvSpPr>
          <p:spPr>
            <a:xfrm>
              <a:off x="5867280" y="5216400"/>
              <a:ext cx="23623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7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>
              <a:off x="3695760" y="5638680"/>
              <a:ext cx="445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19"/>
            <p:cNvSpPr/>
            <p:nvPr/>
          </p:nvSpPr>
          <p:spPr>
            <a:xfrm>
              <a:off x="3581280" y="5638680"/>
              <a:ext cx="46483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Group 28"/>
          <p:cNvGrpSpPr/>
          <p:nvPr/>
        </p:nvGrpSpPr>
        <p:grpSpPr>
          <a:xfrm>
            <a:off x="3073320" y="6083280"/>
            <a:ext cx="2286000" cy="547200"/>
            <a:chOff x="3073320" y="6083280"/>
            <a:chExt cx="2286000" cy="547200"/>
          </a:xfrm>
        </p:grpSpPr>
        <p:sp>
          <p:nvSpPr>
            <p:cNvPr id="131" name="Text Box 22"/>
            <p:cNvSpPr/>
            <p:nvPr/>
          </p:nvSpPr>
          <p:spPr>
            <a:xfrm>
              <a:off x="3187800" y="608328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 Box 23"/>
            <p:cNvSpPr/>
            <p:nvPr/>
          </p:nvSpPr>
          <p:spPr>
            <a:xfrm>
              <a:off x="3073320" y="6121440"/>
              <a:ext cx="22860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1,7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BFBC0B-9D1C-4DA5-A1C0-AD3FB1B72B98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ou purchased furniture for $5,120 on January 1, 2007.  It is estimated that the furniture will be used for 10 years, and at the end of that time, could be sold for $500.  What is the annual depreci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raight-Line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1143000" y="3613320"/>
            <a:ext cx="7086600" cy="1494360"/>
            <a:chOff x="1143000" y="3613320"/>
            <a:chExt cx="7086600" cy="1494360"/>
          </a:xfrm>
        </p:grpSpPr>
        <p:sp>
          <p:nvSpPr>
            <p:cNvPr id="137" name="Text Box 5"/>
            <p:cNvSpPr/>
            <p:nvPr/>
          </p:nvSpPr>
          <p:spPr>
            <a:xfrm>
              <a:off x="1143000" y="3775320"/>
              <a:ext cx="220968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ght-Line Depreciation for one ye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3187440" y="409284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7"/>
            <p:cNvSpPr/>
            <p:nvPr/>
          </p:nvSpPr>
          <p:spPr>
            <a:xfrm>
              <a:off x="3657600" y="3613320"/>
              <a:ext cx="228600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iginal Cost of Ass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5638680" y="380052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5867280" y="3613320"/>
              <a:ext cx="23623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imated Salvage Valu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3695760" y="4334040"/>
              <a:ext cx="445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3581280" y="4334040"/>
              <a:ext cx="46483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imated Number of Periods in the Life of the Ass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Group 12"/>
          <p:cNvGrpSpPr/>
          <p:nvPr/>
        </p:nvGrpSpPr>
        <p:grpSpPr>
          <a:xfrm>
            <a:off x="3187800" y="5105520"/>
            <a:ext cx="5041800" cy="966960"/>
            <a:chOff x="3187800" y="5105520"/>
            <a:chExt cx="5041800" cy="966960"/>
          </a:xfrm>
        </p:grpSpPr>
        <p:sp>
          <p:nvSpPr>
            <p:cNvPr id="145" name="Text Box 13"/>
            <p:cNvSpPr/>
            <p:nvPr/>
          </p:nvSpPr>
          <p:spPr>
            <a:xfrm>
              <a:off x="3187800" y="539748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4"/>
            <p:cNvSpPr/>
            <p:nvPr/>
          </p:nvSpPr>
          <p:spPr>
            <a:xfrm>
              <a:off x="3657600" y="5216400"/>
              <a:ext cx="22860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5,12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5638680" y="510552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5867280" y="5216400"/>
              <a:ext cx="23623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5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17"/>
            <p:cNvSpPr/>
            <p:nvPr/>
          </p:nvSpPr>
          <p:spPr>
            <a:xfrm>
              <a:off x="3695760" y="5638680"/>
              <a:ext cx="445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3581280" y="5638680"/>
              <a:ext cx="46483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Group 19"/>
          <p:cNvGrpSpPr/>
          <p:nvPr/>
        </p:nvGrpSpPr>
        <p:grpSpPr>
          <a:xfrm>
            <a:off x="3073320" y="6083280"/>
            <a:ext cx="2286000" cy="547200"/>
            <a:chOff x="3073320" y="6083280"/>
            <a:chExt cx="2286000" cy="547200"/>
          </a:xfrm>
        </p:grpSpPr>
        <p:sp>
          <p:nvSpPr>
            <p:cNvPr id="152" name="Text Box 20"/>
            <p:cNvSpPr/>
            <p:nvPr/>
          </p:nvSpPr>
          <p:spPr>
            <a:xfrm>
              <a:off x="3187800" y="608328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21"/>
            <p:cNvSpPr/>
            <p:nvPr/>
          </p:nvSpPr>
          <p:spPr>
            <a:xfrm>
              <a:off x="3073320" y="6121440"/>
              <a:ext cx="22860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46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A06E4C-AC24-46CA-A190-2A562AEB3043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en adjusting for depreciation you would expect to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DR  Depreciation Expense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    CR  As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order to show the value of the Asset at cost, you would not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CR  Asset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for the depreciation  …  rather you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CR  Accumulated Depreciation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justing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3D6974-3B40-4985-A84A-63AFD8EB673A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mulated depreciation is a valuation or contra accou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ontra accou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s one that is displayed alongside an associated account and has a balance that is opposite to the account it is associated wit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mulated depreciation is also known as a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valuation accou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…  an account that is used, together with an asset account,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ow the true net value (or ne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ok value) of the asse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ccumulated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ilroy</dc:creator>
  <dc:description/>
  <dc:language>en-US</dc:language>
  <cp:lastModifiedBy>Cameron Stott</cp:lastModifiedBy>
  <dcterms:modified xsi:type="dcterms:W3CDTF">2016-05-04T02:08:08Z</dcterms:modified>
  <cp:revision>24</cp:revision>
  <dc:subject/>
  <dc:title>PowerPoint Presentation</dc:title>
</cp:coreProperties>
</file>